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4CD56-74B6-4CBE-A420-2EAC11C39F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D980A-5594-4DA5-81B9-5DB2BCFA9C1A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E7EF1-CDB9-4E93-87A9-CBA7C93D09D9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BC9-3A1F-4F7E-A9CE-2CFAC309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F98-F3AD-4E5A-B2C3-B3E142BE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979-5AA0-4202-8073-6BA97F4E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8B8-1877-4135-9711-4BE5BE38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B9EA-FDBD-41AC-BADD-6D346616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C451-C8D6-49AE-A05F-3F9E0738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A67A-7824-47DD-BD15-0EB7FFE6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D7E1-FF82-4206-8137-81572073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E24D-58D6-4DB2-8DDD-B5EE4892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6C33-EB18-4B18-A6DE-92F4FAFC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2C81-47B9-47E7-BED3-9F6A854B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DF4-754F-4E39-8634-9C31B154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3AED-8D56-4305-AA10-88B23A15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301A-4BDB-4C01-9162-00C5439C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9B91-ECF7-4AB6-ABC7-233516D1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208E-BD84-4133-9C8A-F61F94BC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D387-CA8E-4582-821D-C06CF80A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F2096-9A93-47C5-95C1-9818F3F3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4BB2-477F-4081-9A36-B6CD5C54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FC7DD-F506-43DE-93A1-FF787A1C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9EAA-CDAA-44E8-89DF-F64CBC1A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D264-2D20-4E05-8871-4565F423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B85-7E25-4704-81E0-DA23E4BA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557E-6724-48FE-A454-D765DE31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6DCCA-3179-4E3F-BAEE-E70C1239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18D2-7820-44BD-B57C-3A35F21C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BE45-48D4-4280-9BAC-6840BB00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C0ED-A5C2-446F-88E4-1CB91398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8ABF0-CD59-4821-A504-7DF918E1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D663-0F3D-4C2B-8C52-7B9FD4E6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280B9-03C7-44F6-90B7-7B0598F0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0670-8861-420E-9212-70186B1E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895C5-5BD6-421D-A9F4-BDCA1398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66E-B40C-4E65-80FD-8C09BA04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20B4F-B587-4E5E-9B75-7517D965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5DAAC-8DC3-4107-858D-9FCFA024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47A8-8C69-427F-82D1-DA72CDC5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8FABA-ADA7-414B-85B6-20915C1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F516F-C153-4B4D-9A98-945277C0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6F2D-4046-4685-86F2-9DB2A73E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183E-B6CB-495B-87E5-B33568F6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50D2-403E-48BC-8A7D-AEF5EAD9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380D9-DB47-4F41-92F2-3B68B2A8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520-DC4E-4033-A5B7-875BBE95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0ED-693C-4EF2-9F82-41A277BB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591-A8AA-4504-92E4-DC72F3C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C07-38D1-4886-8975-4F5BBD92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613-EA9A-483F-82BC-CE492AA6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64B78-0321-49AB-9CCD-D5AF9D91CADC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A6D68-4949-4974-B113-4E9B7EF39705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49A24-CCCE-4306-924B-CEC8201C8B27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152F8-51C5-439D-809A-EAAD13036378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hyperlink" Target="https://www.santepubliquefrance.fr/les-actualites/2017/mise-en-place-des-postes-sanitaires-mobiles-pediatriques" TargetMode="External"/><Relationship Id="rId4" Type="http://schemas.openxmlformats.org/officeDocument/2006/relationships/hyperlink" Target="https://solidarites-sante.gouv.fr/fichiers/bo/2013/13-12/ste_20130012_0000_0068.pd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03360" y="907920"/>
            <a:ext cx="7683480" cy="1312920"/>
          </a:xfrm>
          <a:prstGeom prst="rect">
            <a:avLst/>
          </a:prstGeom>
          <a:noFill/>
          <a:ln w="9360">
            <a:solidFill>
              <a:srgbClr val="3fc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Postes Sanitaires Mobiles </a:t>
            </a:r>
            <a:br>
              <a:rPr sz="4000"/>
            </a:b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I et II et Pédiatriqu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71560" y="4818240"/>
            <a:ext cx="6346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02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Espace réservé du numéro de diapositive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E45B4-110B-4F20-93C2-6744441D663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Image 5" descr=""/>
          <p:cNvPicPr/>
          <p:nvPr/>
        </p:nvPicPr>
        <p:blipFill>
          <a:blip r:embed="rId1"/>
          <a:stretch/>
        </p:blipFill>
        <p:spPr>
          <a:xfrm>
            <a:off x="7790040" y="5257800"/>
            <a:ext cx="1009440" cy="8604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900000" y="564048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r Françoise Raffy - Pharmacie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Image 3" descr=""/>
          <p:cNvPicPr/>
          <p:nvPr/>
        </p:nvPicPr>
        <p:blipFill>
          <a:blip r:embed="rId2"/>
          <a:stretch/>
        </p:blipFill>
        <p:spPr>
          <a:xfrm>
            <a:off x="2400480" y="2368440"/>
            <a:ext cx="32637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59752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Les malles antidote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50560" y="1909800"/>
            <a:ext cx="583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 chimique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CONTRATHION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YANOKIT, SUCCICAPTAL, ATROPINE 40mg,</a:t>
            </a:r>
            <a:br>
              <a:rPr sz="1400"/>
            </a:b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CLONAZEPAM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s nucléaire et radiologiqu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iodure de potassium, RADIOGARDASE, Ca-DTPA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biotique, </a:t>
            </a: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Peste charbon tularémie</a:t>
            </a: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iprofloxacine 500mg c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 de </a:t>
            </a:r>
            <a:r>
              <a:rPr b="0" lang="fr-FR" sz="1400" spc="-1" strike="noStrike" u="sng">
                <a:solidFill>
                  <a:srgbClr val="404040"/>
                </a:solidFill>
                <a:uFillTx/>
                <a:latin typeface="Trebuchet MS"/>
              </a:rPr>
              <a:t>15 victim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ar mall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 : 2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I : 4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0F44F-B1D0-4349-88E5-1AD5A2A69D8B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6" descr="C:\Users\passemad\Desktop\ACTIVITE\Stocks_Urgences\PSM\test_nouvelle_dotation_2016\PSM A JOUR\Antidotes\ANT-1.JPG"/>
          <p:cNvPicPr/>
          <p:nvPr/>
        </p:nvPicPr>
        <p:blipFill>
          <a:blip r:embed="rId1"/>
          <a:stretch/>
        </p:blipFill>
        <p:spPr>
          <a:xfrm>
            <a:off x="5535720" y="3790800"/>
            <a:ext cx="344304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Image 1" descr=""/>
          <p:cNvPicPr/>
          <p:nvPr/>
        </p:nvPicPr>
        <p:blipFill>
          <a:blip r:embed="rId2"/>
          <a:stretch/>
        </p:blipFill>
        <p:spPr>
          <a:xfrm>
            <a:off x="4851360" y="6224760"/>
            <a:ext cx="615960" cy="566640"/>
          </a:xfrm>
          <a:prstGeom prst="rect">
            <a:avLst/>
          </a:prstGeom>
          <a:ln w="0">
            <a:noFill/>
          </a:ln>
        </p:spPr>
      </p:pic>
      <p:pic>
        <p:nvPicPr>
          <p:cNvPr id="269" name="Image 2" descr=""/>
          <p:cNvPicPr/>
          <p:nvPr/>
        </p:nvPicPr>
        <p:blipFill>
          <a:blip r:embed="rId3"/>
          <a:stretch/>
        </p:blipFill>
        <p:spPr>
          <a:xfrm>
            <a:off x="5648400" y="1359000"/>
            <a:ext cx="3214440" cy="241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N:\PSM\PSM1\malles antidotes PSM\CIMG2093.JPG"/>
          <p:cNvPicPr/>
          <p:nvPr/>
        </p:nvPicPr>
        <p:blipFill>
          <a:blip r:embed="rId4"/>
          <a:stretch/>
        </p:blipFill>
        <p:spPr>
          <a:xfrm>
            <a:off x="5648400" y="3808440"/>
            <a:ext cx="33922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416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oints forts des PS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2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81FFB-8CE0-4A46-BEFA-784FBC649953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8360" y="2060640"/>
            <a:ext cx="82072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inalité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ise en charge de victimes sur le terr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nfort hospitali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tandardisati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position limitée et identique pour tous les P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PSM est connu de tous les intervenants de l’aide médicale urgente, quel que soit son département d’implan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spection 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ges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210 référenc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Médicaments, Solutés massifs, Gaz médicaux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Dispositifs médicaux, Instruments chirurgicaux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s d’urge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érennité de la dotation : rotation et réinjection dans le circuit hospitalier avant péremption, changements en fonction des marché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Gestion Informatisée : application web SIGeSS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Retrait de lots :pharmacovigilance, matériovigila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ollaboration étroite SAMU et Pharmacie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Un outil informatique de gestion partagé de l’information : SIGeSS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ES     ESR     ARS/Z     SPF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Suivi de la composition, des péremptions et des n° de lots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9C1EB-E182-4D73-B3DB-2184ACDFFC28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2016000" y="5516640"/>
            <a:ext cx="179640" cy="147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871720" y="5524560"/>
            <a:ext cx="179280" cy="146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4035600" y="5573880"/>
            <a:ext cx="179280" cy="14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IGeSSE</a:t>
            </a: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Système Informatisé de Gestion des Situations Sanitaires Exceptionnel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Outil de gestion des stocks tactiques des établissements de sant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Base de données en ligne avec une interface graphique permettant les modifications, l’import et l’export de donné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2D735-BD20-4D78-B43A-3FE8A75DDEB2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2120" y="1905120"/>
            <a:ext cx="81676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ise en conformité (début 2017) de la dotation après réactualisation par la commission national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Suivi des évolutions des marchés pour les références du PSM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Suppression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Equivalent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Incidence sur le stockage en mall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E2AFB-E33A-49D2-8A65-D6040A5B2F86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Inventaire complet annuel hors rotation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Contrôle réalisé conjointement avec le SAMU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Traçabilité logiciel SIGeS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Actions correctrices si nécessair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9834A-D0A5-4DF6-BF01-911A214C7D6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bjectifs de SIGeS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904760"/>
            <a:ext cx="855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artager entre SPF, les ARS, les ARSZ les ES la gestion des moyens de réponse aux situations sanitaires exceptionnelles déployés dans les ES au sein des zones de défense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Obtenir aux niveaux national et zonal une visibilité sur la disponibilité des stocks tactiques et leur lieu de stockag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Réaliser des mouvements de stocks et des inventaires dans les établissements (PSM et équipements), suivre la maintenance, gérer les kits de produits…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Gérer les équipements et produits supplémentaires aux moyens tactiques mais intégrés à l’initiative de chaque établissement ou de l’ARS pour améliorer la réponse en cas de cris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ermettre des requêtes nécessaires aux reportings aux niveaux établissement, ARS, ARSZ, Santé publique Fra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Fournir aux utilisateurs un outil sécurisé et convivial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B81E6-0EEE-49D1-BE05-CC407FAD09F3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Image 1" descr=""/>
          <p:cNvPicPr/>
          <p:nvPr/>
        </p:nvPicPr>
        <p:blipFill>
          <a:blip r:embed="rId1"/>
          <a:stretch/>
        </p:blipFill>
        <p:spPr>
          <a:xfrm>
            <a:off x="7451640" y="67140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26560" y="698400"/>
            <a:ext cx="8163000" cy="14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Fonctionnalités principales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BECC0-DB4C-473F-B79E-3138A8FE1836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26920" y="220500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 aux référentiels nation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bleau de bord des moye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tactiq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loc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lertes et suivi des péremptions et maintenan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Image 1" descr=""/>
          <p:cNvPicPr/>
          <p:nvPr/>
        </p:nvPicPr>
        <p:blipFill>
          <a:blip r:embed="rId1"/>
          <a:stretch/>
        </p:blipFill>
        <p:spPr>
          <a:xfrm>
            <a:off x="7451640" y="6382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0680" y="620280"/>
            <a:ext cx="81626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Tableau de bord des moyen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F9D2A-3597-449B-BE7F-4CAAF3671D5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1"/>
          <a:srcRect l="0" t="9861" r="0" b="4456"/>
          <a:stretch/>
        </p:blipFill>
        <p:spPr>
          <a:xfrm>
            <a:off x="0" y="1557360"/>
            <a:ext cx="9144000" cy="4896000"/>
          </a:xfrm>
          <a:prstGeom prst="rect">
            <a:avLst/>
          </a:prstGeom>
          <a:ln w="0">
            <a:noFill/>
          </a:ln>
        </p:spPr>
      </p:pic>
      <p:pic>
        <p:nvPicPr>
          <p:cNvPr id="306" name="Image 1" descr=""/>
          <p:cNvPicPr/>
          <p:nvPr/>
        </p:nvPicPr>
        <p:blipFill>
          <a:blip r:embed="rId2"/>
          <a:stretch/>
        </p:blipFill>
        <p:spPr>
          <a:xfrm>
            <a:off x="7451640" y="69048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1630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Gestion des moyens et des </a:t>
            </a:r>
            <a:r>
              <a:rPr b="0" lang="fr-FR" sz="4000" spc="-1" strike="noStrike">
                <a:solidFill>
                  <a:srgbClr val="236292"/>
                </a:solidFill>
                <a:latin typeface="Trebuchet MS"/>
              </a:rPr>
              <a:t>lot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0" t="8481" r="0" b="3960"/>
          <a:stretch/>
        </p:blipFill>
        <p:spPr>
          <a:xfrm>
            <a:off x="0" y="1484280"/>
            <a:ext cx="9144000" cy="4921200"/>
          </a:xfrm>
          <a:prstGeom prst="rect">
            <a:avLst/>
          </a:prstGeom>
          <a:ln w="0">
            <a:noFill/>
          </a:ln>
        </p:spPr>
      </p:pic>
      <p:sp>
        <p:nvSpPr>
          <p:cNvPr id="30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4EA8E-B06C-4DE7-A745-ABDED2270502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Image 1" descr=""/>
          <p:cNvPicPr/>
          <p:nvPr/>
        </p:nvPicPr>
        <p:blipFill>
          <a:blip r:embed="rId2"/>
          <a:stretch/>
        </p:blipFill>
        <p:spPr>
          <a:xfrm>
            <a:off x="7740720" y="8398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9600" y="38088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tocks des Situations </a:t>
            </a:r>
            <a:br>
              <a:rPr sz="3600"/>
            </a:b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anitaires Exceptionnelles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Stratég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Etat gérés et détenus par Santé Publique France (SPF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renfort ou deuxième intentio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ns de distribution exceptionnelle (circ. Intermin. 13/08/2013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comprimés iodure de potassium 65 mg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Tact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s ES siège de SAMU ou de SMU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première intention déployés par les 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Poste Sanitaire Mobile (PSM)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Composition définie au niveau national (commission moyens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500" spc="-1" strike="noStrike">
                <a:solidFill>
                  <a:srgbClr val="404040"/>
                </a:solidFill>
                <a:latin typeface="Trebuchet MS"/>
              </a:rPr>
              <a:t>Stocks ANTIDOTES D’URGE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68204-C3C2-4EBB-9ECF-2CE5C09D53F3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" descr=""/>
          <p:cNvPicPr/>
          <p:nvPr/>
        </p:nvPicPr>
        <p:blipFill>
          <a:blip r:embed="rId2"/>
          <a:stretch/>
        </p:blipFill>
        <p:spPr>
          <a:xfrm>
            <a:off x="6237360" y="3716280"/>
            <a:ext cx="2143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ERCI de votre atten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12" name="Espace réservé du contenu 5" descr=""/>
          <p:cNvPicPr/>
          <p:nvPr/>
        </p:nvPicPr>
        <p:blipFill>
          <a:blip r:embed="rId1"/>
          <a:stretch/>
        </p:blipFill>
        <p:spPr>
          <a:xfrm>
            <a:off x="6289560" y="2492280"/>
            <a:ext cx="2322720" cy="3881520"/>
          </a:xfrm>
          <a:prstGeom prst="rect">
            <a:avLst/>
          </a:prstGeom>
          <a:ln w="0">
            <a:noFill/>
          </a:ln>
        </p:spPr>
      </p:pic>
      <p:sp>
        <p:nvSpPr>
          <p:cNvPr id="313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3B464-8819-4EE5-96BA-07D54DB234D8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Image 6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615960" cy="5666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"/>
          <p:cNvSpPr/>
          <p:nvPr/>
        </p:nvSpPr>
        <p:spPr>
          <a:xfrm>
            <a:off x="468360" y="1484280"/>
            <a:ext cx="597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3"/>
              </a:rPr>
              <a:t>https://www.santepubliquefrance.fr/les-actualites/2017/mise-en-place-des-postes-sanitaires-mobiles-pediatriqu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4"/>
              </a:rPr>
              <a:t>https://solidarites-sante.gouv.fr/fichiers/bo/2013/13-12/ste_20130012_0000_0068.pd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https://solidarites-sante.gouv.fr/systeme-de-sante-et-medico-social/securite-sanitaire/article/les-moyens-sanitaires-mobilisabl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rgan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1904760"/>
            <a:ext cx="83818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Ministère –Santé Publique France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Deux Niveaux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1 - 25 blessés - 400 kg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2 - 500 blessés - 8 tonnes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Répartition nationale (24 PSM 2 – 109 PSM1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te-forme nationale projetable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Implantée sur le site du CHU Henri Mondor à Créteil, au sein du SAMU 94, hélistation répondant aux normes européennes et susceptible d’accueillir des hélicoptères gros porteurs, proximité avec les aéroports de la région parisienne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Les moyens de la plateforme nationale : PSM3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Localisation des PSM: CH avec SAMU ou SMUR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Trebuchet MS"/>
              </a:rPr>
              <a:t>Zone Est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4 PSM 2 : Besançon, Nancy, Reims et Strasbour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8 PSM ped (chaque siège de SAMU-SMUR: 1/ départemen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5 PSM 1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63418-B663-4D38-8AAF-8458691E25CB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Image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049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D282D-19AF-40E6-936F-0FAB2D6CD06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924360" y="2349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5155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Localisation en Zone Es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DA0D0-E343-40A4-A690-70D53A64197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Image 1" descr=""/>
          <p:cNvPicPr/>
          <p:nvPr/>
        </p:nvPicPr>
        <p:blipFill>
          <a:blip r:embed="rId1"/>
          <a:stretch/>
        </p:blipFill>
        <p:spPr>
          <a:xfrm>
            <a:off x="2340000" y="1330200"/>
            <a:ext cx="5400720" cy="51850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2" descr=""/>
          <p:cNvPicPr/>
          <p:nvPr/>
        </p:nvPicPr>
        <p:blipFill>
          <a:blip r:embed="rId2"/>
          <a:stretch/>
        </p:blipFill>
        <p:spPr>
          <a:xfrm>
            <a:off x="7956720" y="609480"/>
            <a:ext cx="615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Doctrine d’emploi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4360" y="1904760"/>
            <a:ext cx="83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Positionné dans les établissement de santé sièges de SAM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Gestion des PSM sous la responsabilité du SAMU et de la Pharmac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obilisable H24 par le médecin responsable du SAMU sur un évènement local ou par l’ARS/Z et ou SPF pour un renfort sur la zone ou sur le territoire nation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49B3F-07C8-48BD-8DDD-904CF4B4644E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639720"/>
            <a:ext cx="66960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2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8400" y="1091880"/>
            <a:ext cx="807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tériel médical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4 lots polyvalents identifiés A, B, C, 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11 malles, 25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 lots principaux identifiés 1 et 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56 malles, 200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Equipements logistiques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Remorque, tente, groupe électrogène, brancard, etc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La totalité du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PSM2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500 victimes dont 100 UA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ndant 24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Intégration des éléments relatif au damage control, Note d’information de novembre 201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SM I =&gt; équivalent de 1 lot polyvalent du PSM I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114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7D21E-D710-4DD3-B25F-FCE8711F00C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Image 5" descr=""/>
          <p:cNvPicPr/>
          <p:nvPr/>
        </p:nvPicPr>
        <p:blipFill>
          <a:blip r:embed="rId1"/>
          <a:stretch/>
        </p:blipFill>
        <p:spPr>
          <a:xfrm>
            <a:off x="7596360" y="227160"/>
            <a:ext cx="936360" cy="787320"/>
          </a:xfrm>
          <a:prstGeom prst="rect">
            <a:avLst/>
          </a:prstGeom>
          <a:ln w="0">
            <a:noFill/>
          </a:ln>
        </p:spPr>
      </p:pic>
      <p:pic>
        <p:nvPicPr>
          <p:cNvPr id="250" name="Image 4" descr=""/>
          <p:cNvPicPr/>
          <p:nvPr/>
        </p:nvPicPr>
        <p:blipFill>
          <a:blip r:embed="rId2"/>
          <a:stretch/>
        </p:blipFill>
        <p:spPr>
          <a:xfrm>
            <a:off x="6211800" y="119556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IMGP2297"/>
          <p:cNvPicPr/>
          <p:nvPr/>
        </p:nvPicPr>
        <p:blipFill>
          <a:blip r:embed="rId3"/>
          <a:stretch/>
        </p:blipFill>
        <p:spPr>
          <a:xfrm>
            <a:off x="6981840" y="5445000"/>
            <a:ext cx="1992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obil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1600" y="1915920"/>
            <a:ext cx="475128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ception modulai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lles formatées, standardisées, empilables et palettisabl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Un lot polyvalent sur remorque : départ H24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Transport terrestre ou héliporté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13EBE-052B-4250-83C8-0EFE9D91614E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R:\PSM2\COURS\20170529_110604.jpg"/>
          <p:cNvPicPr/>
          <p:nvPr/>
        </p:nvPicPr>
        <p:blipFill>
          <a:blip r:embed="rId2"/>
          <a:stretch/>
        </p:blipFill>
        <p:spPr>
          <a:xfrm>
            <a:off x="4952880" y="1557360"/>
            <a:ext cx="3857760" cy="4869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LOGO"/>
          <p:cNvPicPr/>
          <p:nvPr/>
        </p:nvPicPr>
        <p:blipFill>
          <a:blip r:embed="rId3"/>
          <a:stretch/>
        </p:blipFill>
        <p:spPr>
          <a:xfrm>
            <a:off x="7808760" y="981000"/>
            <a:ext cx="887400" cy="763560"/>
          </a:xfrm>
          <a:prstGeom prst="rect">
            <a:avLst/>
          </a:prstGeom>
          <a:ln w="0">
            <a:noFill/>
          </a:ln>
        </p:spPr>
      </p:pic>
      <p:pic>
        <p:nvPicPr>
          <p:cNvPr id="258" name="Image 1" descr=""/>
          <p:cNvPicPr/>
          <p:nvPr/>
        </p:nvPicPr>
        <p:blipFill>
          <a:blip r:embed="rId4"/>
          <a:stretch/>
        </p:blipFill>
        <p:spPr>
          <a:xfrm>
            <a:off x="985680" y="4925880"/>
            <a:ext cx="25066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Pédiatriqu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99840" y="21333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1 lot PSM pédiatrique 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stitué de 11 malles de contenu polyvalen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Ne comporte pas de malle spécifique Antidot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L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PSM pédiatrique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25 UA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de moins de 10 ans (entre 10 et 30 kg) pendant 6h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ette dotation intègre des produits du damage control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Départ en moins de 30 minutes vers le lieux de la catastrophe ou vers un hôpital confronté à une prise en charge de victim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671D9-AE60-4A2B-BD16-44ADD84FBFEB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 1" descr=""/>
          <p:cNvPicPr/>
          <p:nvPr/>
        </p:nvPicPr>
        <p:blipFill>
          <a:blip r:embed="rId2"/>
          <a:stretch/>
        </p:blipFill>
        <p:spPr>
          <a:xfrm>
            <a:off x="5076720" y="258840"/>
            <a:ext cx="24703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8:12:10Z</dcterms:created>
  <dc:creator>F RAFFY</dc:creator>
  <dc:description/>
  <dc:language>en-US</dc:language>
  <cp:lastModifiedBy>Maeva Cabané-Chrestia</cp:lastModifiedBy>
  <dcterms:modified xsi:type="dcterms:W3CDTF">2023-09-25T15:29:54Z</dcterms:modified>
  <cp:revision>260</cp:revision>
  <dc:subject/>
  <dc:title>Présentation PowerPoint</dc:title>
</cp:coreProperties>
</file>