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BECE-F3FD-44DB-918B-24A28A0D6F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54E6-7EF6-4D3E-B2A2-1024068C598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2A7-9910-4A28-A15F-09EF5CC6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5A35-B486-413A-A8BB-7779C595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DAE-EC50-4BD0-A905-70A278AF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A1B-44A8-4800-9646-058400D2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B418-3C57-4FFD-9DC1-A90B8C95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A6BE-3DD0-4051-B67C-34B71436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ADA8-D53A-4D59-A529-D84AAB7E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0255-9AC4-45F5-9C39-5F53CA26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BD62-AC2E-4630-B34C-2BAE5972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8077-973A-44E8-A74A-2A70B567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5EC2-839B-4578-9E43-2ADCCB29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47E-07C7-4057-963C-ABB99E59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16A1-A5A7-415C-A074-466ADE73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5AAB-BE0B-4791-A59A-6D2EA118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B71B-85F4-4C34-B76F-797E5615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A3CB-8D75-4A71-B7C7-03725167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EDF7-02C3-45B9-BE18-1E70327E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C52-3AEF-491A-A8AB-F4AAF5EF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6F8-AECD-4CE8-88C2-D22CAF99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DB3-340B-4288-A5C1-1D11A32C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935-868E-44D5-9725-3BDCE12E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224-58D1-415A-84D8-DBD3E0AE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284-D38C-4270-AC3C-1E789E79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2C4-CEB6-4F68-AB7E-472C1B66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CCA7-D1A2-4B6C-A964-5A007031A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2221-0B2E-40AA-95D1-B6E18D730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ntibiothérapie des infections neuro-méning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nférence de consensus </a:t>
            </a:r>
            <a:br>
              <a:rPr sz="28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19 novembr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ctualisation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072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omic Sans MS"/>
              </a:rPr>
              <a:t>S. pneumoniae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de sensibilité diminuée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à la péni G en France (CN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 3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348000" cy="2760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0" y="3632040"/>
            <a:ext cx="6769080" cy="322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nées CNR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 1" descr=""/>
          <p:cNvPicPr/>
          <p:nvPr/>
        </p:nvPicPr>
        <p:blipFill>
          <a:blip r:embed="rId1"/>
          <a:stretch/>
        </p:blipFill>
        <p:spPr>
          <a:xfrm>
            <a:off x="971640" y="1679400"/>
            <a:ext cx="723564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1" descr=""/>
          <p:cNvPicPr/>
          <p:nvPr/>
        </p:nvPicPr>
        <p:blipFill>
          <a:blip r:embed="rId1"/>
          <a:stretch/>
        </p:blipFill>
        <p:spPr>
          <a:xfrm>
            <a:off x="395280" y="1685880"/>
            <a:ext cx="82440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méningite/bactériém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316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Arial"/>
              </a:rPr>
              <a:t>Sensibilité aux beta lactam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08000" y="1959120"/>
            <a:ext cx="8771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volution des résistances entre 2001 et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Imag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Comic Sans MS"/>
              </a:rPr>
              <a:t>facteurs de risque de résistance du pneumoco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hospitalisation réc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antibiothérapie (</a:t>
            </a:r>
            <a:r>
              <a:rPr b="0" lang="fr-F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-lactamine) dans les 6 mois qui précèd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immuno-dépres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Comic Sans MS"/>
              </a:rPr>
              <a:t>Nourriss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res antibiotiques utilisables en cas de rés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ifamp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mipén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luoroquinolones anti pneumococciques (lévofloxacine, moxifloxac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inézolid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ssociation céfotaxime/ceftriaxone + vanco syner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éning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ésistance à la pénicilline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in des années 80 en Espagne et au Royaume Un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1997 e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NR en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30 %  pénicilline G intermédi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25 % amoxicilline intermédi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s de diminution de la sensibilité pour le céfotax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ensibilité du ménig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3640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Données géné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gravité de l'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isque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inimiser le risque d'erreur dans le choix du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rticularité du compartiment neuro-méning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ssage de la barrière hémato-encépha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écessité d'une bactérici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 supérieure à la C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ximum d'activité sur modèle expérimental avec des concentrations &gt; à 10 à 30 x C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oujours sensible à l'amoxicil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ynergie avec l'association avec la gentam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n cas d'échec : efficacité in vivo du cotrimox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éléments de pharmacologie et de pharmacodynam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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-lactam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pénétration méningée des </a:t>
            </a:r>
            <a:r>
              <a:rPr b="0" lang="fr-FR" sz="2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-lactamines faibles en l'absence d'inflammation des méni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demi-vie d'élimination supérieure à celles du compartiment plasmat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modèle anim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oncentration &gt; 2 à 3 x CMI = insuffisant 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rapport concentration sérique / LCR = 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augmentation des posologies en cas de sensibilité diminué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éfotaxime : 30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céftriaxone : 10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Glycopept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mauvaise pénétration méningée de la vancomy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difficulté d'atteindre des ratio concentration /CMB de 5 à 10, même à 40 à 60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avantage de la perfusion contin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meilleure pénétration dans le LCR, dose de charge à 15 mg/kg/j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en cas d'administration de corticoï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pénétration de la vanco suffisante en cas d</a:t>
            </a:r>
            <a:r>
              <a:rPr b="0" lang="ja-JP" sz="21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administration en perf continue (CID, 200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À utiliser en cas de pneumocoque résistant aux C3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fluoroquinolones et linézo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ur place reste à éval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onne concentration dans le L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usion méningée : 70 % pour le linézo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étude sur modèle animaux encourage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s d'étude clinique chez l'homm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+/- bactériost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elon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24000" y="2543040"/>
            <a:ext cx="84596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elon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6770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sans orientation microbiolog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41860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Durée du trai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neumocoque 10 jours si évolution favorable dès 48h et CMI C3G ≤ 0,5 mg/l, sinon 14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ningocoque 4 jours si évolution favorable dès 48h, sinon 7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istéria 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Streptocoque agalactia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4-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21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Haemophilus influenza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7 j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ningite bactérienne non documentée d’évolution favorable : poursuite de l’antibiothérapie jusqu’au 14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ème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j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Traitements adjuvants : la corticothérap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'inflammation méningée et l'œdème céré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éxaméthasone réduit les séquelles auditives dans les méningites à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Haemophilus influenza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hez l'enf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ême résultats dans la même population pour les méningites à pneumocoque si corticoïdes administrés avant ou au moment de la première administration d'antibio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endance à avoir plus de guérison sans séquelles chez l'adulte traité par la déxamétha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ffet sur la mortalité :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sologie 0.4 à 0.6 mg/kg/jour répartis en 4 injections pendant 2 à 4 j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convén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es défenses naturelles de l'organism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minue la diffusion des antibiotiques dans le LCR (surtout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lactamines et vancomycine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éning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Haemophilus influenza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nette diminution depuis la vaccination chez le nourris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érobacté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Pseudom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aphyloco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Strepto agalactia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199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2136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bcès cérébr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icrob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reptocoques non groupables (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S. anginosus, S. intermedius, S. constellat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aérobies (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Peptostreptococcu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Bacteroid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acilles à Gram nég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ffusion des antibiotiques dans le parenchyme céréb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hiamphéni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tronidaz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+/- fosfomy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incipe du trai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dico-chirur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aptation à l'antibiogramme : céphalosporines de troisième génération; thiamphénicol ?, métronidazole, fosfomycine, rifamp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Pharmac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acteurs influençant la pénétration des antibiotiques dans le L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acteurs augmentation perméabil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lécules de petite ta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ible degré de liaison aux proté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ible degré d'ionisation à pH physiolo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ipophi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acteurs diminuant la péné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cidose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centration élevée en protéines dans le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empérature élevée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odalités prat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lai d'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plus rapide possible = urgence antibio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ximum : 3 heures après l’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cision thérapeutique prise 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léments cli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spect du L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sultat cytolog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aptation selon résultats bactériologiques à 48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ntibiotique de première in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définir selon les orientations cli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urp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685800" y="2362320"/>
          <a:ext cx="35053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35053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Group 4"/>
          <p:cNvGrpSpPr/>
          <p:nvPr/>
        </p:nvGrpSpPr>
        <p:grpSpPr>
          <a:xfrm>
            <a:off x="5105520" y="1981080"/>
            <a:ext cx="2949480" cy="3856680"/>
            <a:chOff x="5105520" y="1981080"/>
            <a:chExt cx="2949480" cy="3856680"/>
          </a:xfrm>
        </p:grpSpPr>
        <p:graphicFrame>
          <p:nvGraphicFramePr>
            <p:cNvPr id="106" name="Object 5"/>
            <p:cNvGraphicFramePr/>
            <p:nvPr/>
          </p:nvGraphicFramePr>
          <p:xfrm>
            <a:off x="5105520" y="1981080"/>
            <a:ext cx="2949480" cy="3352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5520" y="1981080"/>
                      <a:ext cx="2949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 Box 6"/>
            <p:cNvSpPr/>
            <p:nvPr/>
          </p:nvSpPr>
          <p:spPr>
            <a:xfrm>
              <a:off x="5138640" y="5012280"/>
              <a:ext cx="2906280" cy="8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808080"/>
                  </a:solidFill>
                  <a:latin typeface="Times New Roman"/>
                </a:rPr>
                <a:t>PURPURA EXTENS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57200" y="2198520"/>
            <a:ext cx="82296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Orientation thérapeutique selon le micro-organis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Pneumoc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résistance aux </a:t>
            </a:r>
            <a:r>
              <a:rPr b="0" lang="fr-FR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-lactami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résistance à la pénicilline G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CMI &gt; ou = 0.1 mg/l)</a:t>
            </a: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 : 20 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pneumocoque de sensibilité diminuée à l'amoxicilline voire aux C3G injectables : r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18 % et 12.5 % I pour l'amoxi et le céfotax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pas de résistance pour ces deux derniers antibiotiq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omic Sans MS"/>
              </a:rPr>
              <a:t>vanco toujours effic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2:02:17Z</dcterms:created>
  <dc:creator>yves hansmann</dc:creator>
  <dc:description/>
  <dc:language>en-US</dc:language>
  <cp:lastModifiedBy>invit</cp:lastModifiedBy>
  <dcterms:modified xsi:type="dcterms:W3CDTF">2019-03-06T14:49:28Z</dcterms:modified>
  <cp:revision>15</cp:revision>
  <dc:subject/>
  <dc:title>Antibiothérapie des infections neuro-méningées</dc:title>
</cp:coreProperties>
</file>