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526C-507A-4EB6-9CB2-FBB6E7D275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B7DB-0D07-47DE-A78C-95D02D1C432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90F-E8F9-4EE5-9FFE-8E0E9D9B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AED9-8347-4996-B541-767F0041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A6B-0574-44CA-BA61-86854D4B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FEA2-FBB7-4DF2-9DC2-E7240E38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2434-DA98-488B-A2BD-CE4F0F55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6BE6-6CD2-4FCF-B49E-D7C8B23B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7292-3943-43A8-AE13-37818990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A762-CE5A-4ED5-98CE-499664CC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20F9-BCE0-4349-9777-10D80550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91A2-855C-4D15-A40F-269E6E5F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2218-CFA0-4011-A930-0C07EF33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5BE1-8FB4-4D8D-A74A-78F48CC9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C776-AA4C-4EA9-95BB-5E40BFA2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E623-4BDD-4CCB-B72F-5963F140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4DE4-F7E1-492D-8E3B-059B9ADD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8B08-6539-479A-9DC7-D824D8FB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E438-307A-452A-BAF4-43FB1B46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FED2-BBA5-4E84-B9AB-FC6A80C8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DE00-BD3B-4BAE-A03A-97979463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C06C-A6DC-4E37-A954-7E951162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3C7-C769-4F7D-8ACE-E8E35A2D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119-CFD2-4406-B0C4-7522BA84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4AB-580C-4CE2-9B29-43644BAD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4314-3B12-4F5D-B045-D3F18CA9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FD5A-5400-4387-882F-F21A466F85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AE4B-C8D0-4A39-87AF-419735383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ntibiothérapie des infections neuro-méning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nférence de consensus </a:t>
            </a:r>
            <a:br>
              <a:rPr sz="28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19 novembr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ctualisation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072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omic Sans MS"/>
              </a:rPr>
              <a:t>S. pneumoniae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de sensibilité diminuée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à la péni G en France (CNR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age 3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3348000" cy="2760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0" y="3632040"/>
            <a:ext cx="6769080" cy="322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nées CNR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 1" descr=""/>
          <p:cNvPicPr/>
          <p:nvPr/>
        </p:nvPicPr>
        <p:blipFill>
          <a:blip r:embed="rId1"/>
          <a:stretch/>
        </p:blipFill>
        <p:spPr>
          <a:xfrm>
            <a:off x="971640" y="1679400"/>
            <a:ext cx="723564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1" descr=""/>
          <p:cNvPicPr/>
          <p:nvPr/>
        </p:nvPicPr>
        <p:blipFill>
          <a:blip r:embed="rId1"/>
          <a:stretch/>
        </p:blipFill>
        <p:spPr>
          <a:xfrm>
            <a:off x="395280" y="1685880"/>
            <a:ext cx="82440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Pneumocoqu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méningite/bactériém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3167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Arial"/>
              </a:rPr>
              <a:t>Sensibilité aux beta lactam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08000" y="1959120"/>
            <a:ext cx="87710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Évolution des résistances entre 2001 et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Image 1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0000"/>
                </a:solidFill>
                <a:uFillTx/>
                <a:latin typeface="Comic Sans MS"/>
              </a:rPr>
              <a:t>facteurs de risque de résistance du pneumoco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hospitalisation réc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antibiothérapie (</a:t>
            </a:r>
            <a:r>
              <a:rPr b="0" lang="fr-FR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-lactamine) dans les 6 mois qui précèd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immuno-dépress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Nourriss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res antibiotiques utilisables en cas de rési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ifamp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mipénè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luoroquinolones anti pneumococciques (lévofloxacine, moxifloxac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inézolid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ssociation céfotaxime/ceftriaxone + vanco syner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Méning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ésistance à la pénicilline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in des années 80 en Espagne et au Royaume Un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1997 e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NR en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30 %  pénicilline G intermédi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25 % amoxicilline intermédi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s de diminution de la sensibilité pour le céfotax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ensibilité du ménig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3640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Données géné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gravité de l'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isque v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inimiser le risque d'erreur dans le choix du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rticularité du compartiment neuro-méning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assage de la barrière hémato-encépha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écessité d'une bactérici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centration supérieure à la C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ximum d'activité sur modèle expérimental avec des concentrations &gt; à 10 à 30 x C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omic Sans MS"/>
              </a:rPr>
              <a:t>Lis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oujours sensible à l'amoxicil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ynergie avec l'association avec la gentam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n cas d'échec : efficacité in vivo du cotrimoxaz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éléments de pharmacologie et de pharmacodynam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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omic Sans MS"/>
              </a:rPr>
              <a:t>-lactami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pénétration méningée des </a:t>
            </a:r>
            <a:r>
              <a:rPr b="0" lang="fr-FR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-lactamines faibles en l'absence d'inflammation des ménin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demi-vie d'élimination supérieure à celles du compartiment plasmat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modèle anim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concentration &gt; 2 à 3 x CMI = insuffisant 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rapport concentration sérique / LCR = 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augmentation des posologies en cas de sensibilité diminué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céfotaxime : 300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céftriaxone : 100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Glycopept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mauvaise pénétration méningée de la vancomy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difficulté d'atteindre des ratio concentration /CMB de 5 à 10, même à 40 à 60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avantage de la perfusion contin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meilleure pénétration dans le LCR, dose de charge à 15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en cas d'administration de corticoï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pénétration de la vanco suffisante en cas d</a:t>
            </a:r>
            <a:r>
              <a:rPr b="0" lang="ja-JP" sz="21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administration en perf continue (CID, 200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À utiliser en cas de pneumocoque résistant aux C3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fluoroquinolones et linézo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ur place reste à éval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onne concentration dans le L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usion méningée : 70 % pour le linézo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étude sur modèle animaux encourage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s d'étude clinique chez l'homm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+/- bactériost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selon orientation micro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24000" y="2543040"/>
            <a:ext cx="84596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selon orientation micro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6770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sans orientation micro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41860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Durée du trai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neumocoque 10 jours si évolution favorable dès 48h et CMI C3G ≤ 0,5 mg/l, sinon 14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éningocoque 4 jours si évolution favorable dès 48h, sinon 7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istéria 21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Streptocoque agalactiae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4-21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21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Haemophilus influenzae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7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éningite bactérienne non documentée d’évolution favorable : poursuite de l’antibiothérapie jusqu’au 14</a:t>
            </a:r>
            <a:r>
              <a:rPr b="0" lang="fr-FR" sz="2200" spc="-1" strike="noStrike" baseline="30000">
                <a:solidFill>
                  <a:srgbClr val="000000"/>
                </a:solidFill>
                <a:latin typeface="Arial"/>
              </a:rPr>
              <a:t>ème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j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Traitements adjuvants : la corticothérap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minue l'inflammation méningée et l'œdème céré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éxaméthasone réduit les séquelles auditives dans les méningites à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Haemophilus influenza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hez l'enf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ême résultats dans la même population pour les méningites à pneumocoque si corticoïdes administrés avant ou au moment de la première administration d'antibio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endance à avoir plus de guérison sans séquelles chez l'adulte traité par la déxamétha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ffet sur la mortalité :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sologie 0.4 à 0.6 mg/kg/jour répartis en 4 injections pendant 2 à 4 j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convén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minue les défenses naturelles de l'organism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minue la diffusion des antibiotiques dans le LCR (surtout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lactamines et vancomycine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éningoc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neumoc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Haemophilus influenza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nette diminution depuis la vaccination chez le nourris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térobacté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Pseudom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taphyloco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Lis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Strepto agalactia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199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2136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bcès cérébr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icrob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reptocoques non groupables (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S. anginosus, S. intermedius, S. constellatu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naérobies (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Peptostreptococcu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Bacteroide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acilles à Gram néga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aphyloco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ffusion des antibiotiques dans le parenchyme céréb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hiamphéni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étronidaz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luoroquino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+/- fosfomy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incipe du trai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édico-chirur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aptation à l'antibiogramme : céphalosporines de troisième génération; thiamphénicol ?, métronidazole, fosfomycine, rifamp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Pharmac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acteurs influençant la pénétration des antibiotiques dans le L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acteurs augmentation perméabil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lécules de petite ta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aible degré de liaison aux proté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aible degré d'ionisation à pH physiolog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ipophi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acteurs diminuant la péné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cidose du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centration élevée en protéines dans le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empérature élevée du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Modalités prat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lai d'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plus rapide possible = urgence antibio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ximum : 3 heures après l’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cision thérapeutique prise s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léments cli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spect du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cytolog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daptation selon résultats bactériologiques à 48 he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ntibiotique de première in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à définir selon les orientations cli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urp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685800" y="2362320"/>
          <a:ext cx="350532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35053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" name="Group 4"/>
          <p:cNvGrpSpPr/>
          <p:nvPr/>
        </p:nvGrpSpPr>
        <p:grpSpPr>
          <a:xfrm>
            <a:off x="5105520" y="1981080"/>
            <a:ext cx="2949480" cy="3856680"/>
            <a:chOff x="5105520" y="1981080"/>
            <a:chExt cx="2949480" cy="3856680"/>
          </a:xfrm>
        </p:grpSpPr>
        <p:graphicFrame>
          <p:nvGraphicFramePr>
            <p:cNvPr id="106" name="Object 5"/>
            <p:cNvGraphicFramePr/>
            <p:nvPr/>
          </p:nvGraphicFramePr>
          <p:xfrm>
            <a:off x="5105520" y="1981080"/>
            <a:ext cx="2949480" cy="3352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05520" y="1981080"/>
                      <a:ext cx="2949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Text Box 6"/>
            <p:cNvSpPr/>
            <p:nvPr/>
          </p:nvSpPr>
          <p:spPr>
            <a:xfrm>
              <a:off x="5138640" y="5012280"/>
              <a:ext cx="2906280" cy="82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808080"/>
                  </a:solidFill>
                  <a:latin typeface="Times New Roman"/>
                </a:rPr>
                <a:t>PURPURA EXTENS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57200" y="2198520"/>
            <a:ext cx="82296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Orientation thérapeutique selon le micro-organis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Pneumoc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résistance aux </a:t>
            </a:r>
            <a:r>
              <a:rPr b="0" lang="fr-FR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-lactami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résistance à la pénicilline G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CMI &gt; ou = 0.1 mg/l)</a:t>
            </a: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 : 20 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pneumocoque de sensibilité diminuée à l'amoxicilline voire aux C3G injectables : ra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18 % et 12.5 % I pour l'amoxi et le céfotax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pas de résistance pour ces deux derniers antibiotiq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vanco toujours effic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22:02:17Z</dcterms:created>
  <dc:creator>yves hansmann</dc:creator>
  <dc:description/>
  <dc:language>en-US</dc:language>
  <cp:lastModifiedBy>invit</cp:lastModifiedBy>
  <dcterms:modified xsi:type="dcterms:W3CDTF">2019-03-06T14:49:28Z</dcterms:modified>
  <cp:revision>15</cp:revision>
  <dc:subject/>
  <dc:title>Antibiothérapie des infections neuro-méningées</dc:title>
</cp:coreProperties>
</file>