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08EE-BAB1-440B-8DB8-93AA30B9A9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028-DD9B-48B2-8424-914921523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4A3-CA42-48BD-BEB1-742D9FFB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6B8-1995-4FFA-9534-0A46A65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7D4-FFB1-407F-9E70-7E5C5B75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E90-0A6A-4809-98C1-CA80E93D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C2F-7F22-4F9E-AE5D-FD23D8B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E8E-02C4-484A-87BF-1B68DB1C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78B-03ED-4320-9585-E918D6D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717-13F1-48A5-8BCC-39452841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5CC-3731-4D8F-A805-0EE5A6C1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122-BD51-4CF6-8F92-7DE2D2FB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27D-493F-4B16-A476-5F0C52D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83F-F369-482B-8B18-319BDDA0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783-972F-4B2C-AD2E-AB0C8F9B575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Connecteur droit 5" descr=""/>
          <p:cNvPicPr/>
          <p:nvPr/>
        </p:nvPicPr>
        <p:blipFill>
          <a:blip r:embed="rId2"/>
          <a:stretch/>
        </p:blipFill>
        <p:spPr>
          <a:xfrm>
            <a:off x="139680" y="1347840"/>
            <a:ext cx="8967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nfections septicémiques et endocardit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thérapeu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ecommandations européennes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ut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,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staphylococciques (en association en cas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du p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eta-lactami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nergistines, lincosanides (clindamyc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utres : fluoroquinolone, rifampicine, acide fusidique, fosfomycine, glycopeptides, aminosides, linézolide, dapto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strept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énicil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lindamy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stéo-articu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taphyl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énicilline anti staphylococcique en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rifampicine, acide fusidique, fosfomycine, clindamycine = bonne pénétration oss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glycopeptides en association au début du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aux antistaphylococciques : daptomycine à évaluer, linézo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odalités d'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herche des meilleures données pharmacologiques et pharmacodynam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rqueur prévisionnel d'effica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sé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centrations minimales inhibitrices/bactér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otients inhib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ire sous la cour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voir bactéricide du sé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Modalités / durée du trait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intraveineuse continue ou discontinue selon les propriétés pharmacologiques et pharmacodyna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oie orale uniquement dans certaines situations particulières (typhoïde, brucellose, utilisation de fluoroquinol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ivilégier les associations bactéricides synergiques en début d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(inoculum important, risque septiq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viter les antibiotiques bactériostatiques (macrolides, cycli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rée variable selon la porte d'entrée et surtout les localisations second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moyenne deux à quatre se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ins si porte d</a:t>
            </a: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rée urinaire ou pulmonaire ou ménin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Endocard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Définition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 du tissu endothélial recouvrant les valves cardiaques, favorisée par des lésions préexistant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équence : lésions destructrices ou végé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Comic Sans MS"/>
              </a:rPr>
              <a:t>Formes cliniques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baiguë "d'Osler" / aiguës (staphylocoqu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docardite sur valves mécaniques/nativ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rtalité : 16 % variable selon le microorganisme en cause (plus de 50 % de mortalité pour les endocardites à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Candid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non group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reptocoques D (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bovi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S. galolyticu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téroco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taphyloco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a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(groupe HACEK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Bartonella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Coxiella burneti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Particularités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bactéricidi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entrations bactéricides dans la valve (tissu de pénétration difficile, absence de réaction inflammato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osologie éle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urée longue (4 à 6 sema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onitoring de l'antibiothérapi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4872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staphyl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71440" y="1844640"/>
            <a:ext cx="86011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docardites à entéroc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0080" y="1476360"/>
            <a:ext cx="76838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Principes de base du traitement antibio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potentiellement sév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ections aiguë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tilisation des associations d'antibiotiques pour améliorer l'efficac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cherche de sy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du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ntibiothérapie par voie intravein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itement 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oix selon la porte d'entrée présum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aptation en fonction de l'isolement du micro organisme et de son antibi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as particulier: endoca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fection subaigu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itement empirique dis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itement empi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3160" y="1222200"/>
            <a:ext cx="879768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867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Mesures associ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irurgie si nécess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oc, IC, TDC, valve prothétique, grosse végétation, fièvre persi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urveillance rapprochée et prolong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linique +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chographie cardi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ntibioprophylax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elon le type de cardiopathie et la chiru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chéma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3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u pristinamycine 1g 1h avant le g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ins dentaires et VAS sous 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moxicilline 2g IV 1h avant, 1g po 6h apr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ancomycine 1g 1h a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Antibiothérapie initiale </a:t>
            </a:r>
            <a:br>
              <a:rPr sz="3200"/>
            </a:br>
            <a:r>
              <a:rPr b="0" lang="fr-FR" sz="3200" spc="-1" strike="noStrike" u="sng">
                <a:solidFill>
                  <a:srgbClr val="000000"/>
                </a:solidFill>
                <a:uFillTx/>
                <a:latin typeface="Comic Sans MS"/>
              </a:rPr>
              <a:t>indication et critères de cho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onnaissance du syndrome septicé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RIS, 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èvre, tachycardie, frisson, marbru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oint d'appel cli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raitement empirique à adapter se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porte d'entr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localisations second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signes de gra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istence d'un état de c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ute tensionnel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ractère nosoc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uvelles définitions du sep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MA 23 février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défini comme une dysfonction d’organe menaçant le pronostic vital et causé par une réponse inappropriée de l’hôte à une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Il n’y a plus de distinguo sepsis/sepsis gr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gmentation du score SOFA (Sequential Organ Failure Assessment) d’au moins 2 points lié à l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core SO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critères simplifiés, utilisables hors réanimation, pour dépistage de patients pouvant avoir un sepsi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Pression artérielle systolique ≤ 100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Fréquence respiratoire ≥ 22/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Calibri"/>
              </a:rPr>
              <a:t>Con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  <a:ea typeface="Calibri"/>
              </a:rPr>
              <a:t>La présence de 2 critères quick SOFA (qSOFA) identifie des patients risquant d’avoir un mauvais pronostic et justifiant d’un monitorage accru, et/ou d’un traitement spécifique et/ou de prendre un avis en réani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c se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Calibri"/>
              </a:rPr>
              <a:t>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Calibri"/>
              </a:rPr>
              <a:t> est défini par l’association 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Se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Besoin de drogues vasopressives pour maintenir une PAM ≥ 65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Calibri"/>
              </a:rPr>
              <a:t>Lactates &gt; 2 mmol/l (18mg/dl) malgré un remplissage adéq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Comic Sans MS"/>
              </a:rPr>
              <a:t>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taphylococcus aureu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Staphylocoques blancs : porte d'entrée cuta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eptocoque (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S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galactia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érobactéries (porte d'entrée digestive, urina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seudomonas aeruginosa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Acinetobact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caractère nosocomial, sujets fragilis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naér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rte d'entrée di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acilles à Gram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eaucoup plus rares : corynebacteries,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Lis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cci à Gram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Neisseria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méningoco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evaluation à 48-72 heures selon l'antibiogramme en respectant les mêmes règles de prescription init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érêt de la desescalade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fficacité plutôt que le spec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a tolé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vilégier l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écono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omic Sans MS"/>
              </a:rPr>
              <a:t>Choix selon la porte d'entr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rinaire (pyélonéphrite, prostat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,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éphalosporines de troisième génération +/- aminosid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luoroquinolones, +/-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lmo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moxicilline, céphalosporines de troisièm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crolides et apparen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uvelles fluoroquinolones en deuxièm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ges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térobactéries + anaérobies + entér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ociation céphalosporine ou pénicilline à spectre large + amino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nin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éningocoque, pneumo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1:43:54Z</dcterms:created>
  <dc:creator>yves hansmann</dc:creator>
  <dc:description/>
  <dc:language>en-US</dc:language>
  <cp:lastModifiedBy>HANSMANN Yves</cp:lastModifiedBy>
  <dcterms:modified xsi:type="dcterms:W3CDTF">2019-03-01T13:51:06Z</dcterms:modified>
  <cp:revision>16</cp:revision>
  <dc:subject/>
  <dc:title>Infections septicémiques et endocardites schémas thérapeutiques</dc:title>
</cp:coreProperties>
</file>