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3E5-9FF5-4FF7-BA46-073D615F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676-FA77-4D11-8BC6-438E4182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B94-18CA-4377-8E01-328F2709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A7D-CB9F-429E-9FA5-CEBFA324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E4D4-DFAF-4914-921E-BAE4CF2D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3D92-3C3D-414E-A705-DCF45C5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6225-EAF5-41AB-8E7D-D689AD1C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B41-51C9-4B9F-9486-B44A0C65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E386-E598-483A-B4F6-C776E56B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834-4FEA-43AE-A666-2393DCBD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A55-8889-4D84-AA26-CF32784E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011-9D52-405A-9D7D-1D06DDA3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83F6-591B-4B98-A643-1FDF4EC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886-4054-40AC-B9DA-E92EEA48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2656-D5E9-463E-9AE8-E08BFD68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8659-A573-4131-9401-4B3B1957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C1D-4E83-4834-907C-A4B15191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3FD-4C89-4A0C-9E3F-E81B4906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E0B-E89B-4CD4-BBD7-E89D301E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A08-84B6-412C-8C8E-4E5EE3C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A38-2626-48A4-9B7C-0DF0233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9F7-1F1D-499B-A5B4-49ADE7B1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C68-2C77-4F5B-A944-EBEF7EB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2AE-86DC-4346-A40F-5897ED2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F579-CCF1-45D1-ADD0-7255E23A1F62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324-45BB-482F-80B0-7D70BB9AA09F}" type="slidenum">
              <a:rPr b="0" lang="fr-FR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266480"/>
            <a:ext cx="73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thérapie d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s urinaire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529920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d’antibiothérapie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bjectifs de l'antibiothérap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ba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élevée d’antibiotique dans les ur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Infections urinaires hau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obtenir une concentration parenchymateuse élevée et une élimination urinaire suffis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5800" y="2133720"/>
            <a:ext cx="8380800" cy="4647240"/>
            <a:chOff x="685800" y="2133720"/>
            <a:chExt cx="8380800" cy="4647240"/>
          </a:xfrm>
        </p:grpSpPr>
        <p:grpSp>
          <p:nvGrpSpPr>
            <p:cNvPr id="316" name=""/>
            <p:cNvGrpSpPr/>
            <p:nvPr/>
          </p:nvGrpSpPr>
          <p:grpSpPr>
            <a:xfrm>
              <a:off x="685800" y="2133720"/>
              <a:ext cx="4360320" cy="724320"/>
              <a:chOff x="685800" y="2133720"/>
              <a:chExt cx="4360320" cy="72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768240" y="2133720"/>
                <a:ext cx="41943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2133720"/>
                <a:ext cx="43603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46480" y="2133720"/>
              <a:ext cx="1339920" cy="724320"/>
              <a:chOff x="5046480" y="2133720"/>
              <a:chExt cx="1339920" cy="724320"/>
            </a:xfrm>
          </p:grpSpPr>
          <p:sp>
            <p:nvSpPr>
              <p:cNvPr id="320" name=""/>
              <p:cNvSpPr/>
              <p:nvPr/>
            </p:nvSpPr>
            <p:spPr>
              <a:xfrm>
                <a:off x="512892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1</a:t>
                </a:r>
                <a:r>
                  <a:rPr b="1" lang="en-US" sz="2000" spc="-1" strike="noStrike" baseline="30000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r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 épisod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464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386760" y="2133720"/>
              <a:ext cx="1339200" cy="724320"/>
              <a:chOff x="6386760" y="2133720"/>
              <a:chExt cx="1339200" cy="724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69200" y="2133720"/>
                <a:ext cx="117396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Ville récidiv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760" y="2133720"/>
                <a:ext cx="133920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726680" y="2133720"/>
              <a:ext cx="1339920" cy="724320"/>
              <a:chOff x="7726680" y="2133720"/>
              <a:chExt cx="1339920" cy="724320"/>
            </a:xfrm>
          </p:grpSpPr>
          <p:sp>
            <p:nvSpPr>
              <p:cNvPr id="326" name=""/>
              <p:cNvSpPr/>
              <p:nvPr/>
            </p:nvSpPr>
            <p:spPr>
              <a:xfrm>
                <a:off x="7809840" y="2133720"/>
                <a:ext cx="1173600" cy="7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Hôpital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26680" y="2133720"/>
                <a:ext cx="1339920" cy="724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85800" y="2858400"/>
              <a:ext cx="4360320" cy="559800"/>
              <a:chOff x="685800" y="2858400"/>
              <a:chExt cx="4360320" cy="559800"/>
            </a:xfrm>
          </p:grpSpPr>
          <p:sp>
            <p:nvSpPr>
              <p:cNvPr id="329" name=""/>
              <p:cNvSpPr/>
              <p:nvPr/>
            </p:nvSpPr>
            <p:spPr>
              <a:xfrm>
                <a:off x="768240" y="28584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. col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800" y="28584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046480" y="2858400"/>
              <a:ext cx="1339920" cy="559800"/>
              <a:chOff x="5046480" y="2858400"/>
              <a:chExt cx="1339920" cy="559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892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5-9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464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86760" y="2858400"/>
              <a:ext cx="1339200" cy="559800"/>
              <a:chOff x="6386760" y="2858400"/>
              <a:chExt cx="1339200" cy="559800"/>
            </a:xfrm>
          </p:grpSpPr>
          <p:sp>
            <p:nvSpPr>
              <p:cNvPr id="335" name=""/>
              <p:cNvSpPr/>
              <p:nvPr/>
            </p:nvSpPr>
            <p:spPr>
              <a:xfrm>
                <a:off x="6469200" y="28584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6760" y="28584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7726680" y="2858400"/>
              <a:ext cx="1339920" cy="559800"/>
              <a:chOff x="7726680" y="2858400"/>
              <a:chExt cx="1339920" cy="559800"/>
            </a:xfrm>
          </p:grpSpPr>
          <p:sp>
            <p:nvSpPr>
              <p:cNvPr id="338" name=""/>
              <p:cNvSpPr/>
              <p:nvPr/>
            </p:nvSpPr>
            <p:spPr>
              <a:xfrm>
                <a:off x="7809840" y="28584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6680" y="28584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85800" y="3418920"/>
              <a:ext cx="4360320" cy="559800"/>
              <a:chOff x="685800" y="3418920"/>
              <a:chExt cx="4360320" cy="559800"/>
            </a:xfrm>
          </p:grpSpPr>
          <p:sp>
            <p:nvSpPr>
              <p:cNvPr id="341" name=""/>
              <p:cNvSpPr/>
              <p:nvPr/>
            </p:nvSpPr>
            <p:spPr>
              <a:xfrm>
                <a:off x="768240" y="34189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Proteus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85800" y="34189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046480" y="3418920"/>
              <a:ext cx="1339920" cy="559800"/>
              <a:chOff x="5046480" y="3418920"/>
              <a:chExt cx="1339920" cy="559800"/>
            </a:xfrm>
          </p:grpSpPr>
          <p:sp>
            <p:nvSpPr>
              <p:cNvPr id="344" name=""/>
              <p:cNvSpPr/>
              <p:nvPr/>
            </p:nvSpPr>
            <p:spPr>
              <a:xfrm>
                <a:off x="512892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3-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64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6386760" y="3418920"/>
              <a:ext cx="1339200" cy="559800"/>
              <a:chOff x="6386760" y="3418920"/>
              <a:chExt cx="1339200" cy="559800"/>
            </a:xfrm>
          </p:grpSpPr>
          <p:sp>
            <p:nvSpPr>
              <p:cNvPr id="347" name=""/>
              <p:cNvSpPr/>
              <p:nvPr/>
            </p:nvSpPr>
            <p:spPr>
              <a:xfrm>
                <a:off x="6469200" y="34189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9-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86760" y="34189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7726680" y="3418920"/>
              <a:ext cx="1339920" cy="559800"/>
              <a:chOff x="7726680" y="3418920"/>
              <a:chExt cx="1339920" cy="559800"/>
            </a:xfrm>
          </p:grpSpPr>
          <p:sp>
            <p:nvSpPr>
              <p:cNvPr id="350" name=""/>
              <p:cNvSpPr/>
              <p:nvPr/>
            </p:nvSpPr>
            <p:spPr>
              <a:xfrm>
                <a:off x="7809840" y="34189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26680" y="34189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85800" y="3979440"/>
              <a:ext cx="4360320" cy="559800"/>
              <a:chOff x="685800" y="3979440"/>
              <a:chExt cx="4360320" cy="559800"/>
            </a:xfrm>
          </p:grpSpPr>
          <p:sp>
            <p:nvSpPr>
              <p:cNvPr id="353" name=""/>
              <p:cNvSpPr/>
              <p:nvPr/>
            </p:nvSpPr>
            <p:spPr>
              <a:xfrm>
                <a:off x="768240" y="39794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Klebsiella </a:t>
                </a: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5800" y="39794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5046480" y="3979440"/>
              <a:ext cx="1339920" cy="559800"/>
              <a:chOff x="5046480" y="3979440"/>
              <a:chExt cx="1339920" cy="55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512892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&lt;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464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386760" y="3979440"/>
              <a:ext cx="1339200" cy="559800"/>
              <a:chOff x="6386760" y="3979440"/>
              <a:chExt cx="1339200" cy="5598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69200" y="39794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6760" y="39794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7726680" y="3979440"/>
              <a:ext cx="1339920" cy="559800"/>
              <a:chOff x="7726680" y="3979440"/>
              <a:chExt cx="1339920" cy="55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809840" y="39794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26680" y="39794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685800" y="4539600"/>
              <a:ext cx="4360320" cy="559800"/>
              <a:chOff x="685800" y="4539600"/>
              <a:chExt cx="4360320" cy="559800"/>
            </a:xfrm>
          </p:grpSpPr>
          <p:sp>
            <p:nvSpPr>
              <p:cNvPr id="365" name=""/>
              <p:cNvSpPr/>
              <p:nvPr/>
            </p:nvSpPr>
            <p:spPr>
              <a:xfrm>
                <a:off x="768240" y="453960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Staphylococcus saprophyticu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800" y="453960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46480" y="4539600"/>
              <a:ext cx="1339920" cy="559800"/>
              <a:chOff x="5046480" y="4539600"/>
              <a:chExt cx="1339920" cy="559800"/>
            </a:xfrm>
          </p:grpSpPr>
          <p:sp>
            <p:nvSpPr>
              <p:cNvPr id="368" name=""/>
              <p:cNvSpPr/>
              <p:nvPr/>
            </p:nvSpPr>
            <p:spPr>
              <a:xfrm>
                <a:off x="512892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-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464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386760" y="4539600"/>
              <a:ext cx="1339200" cy="559800"/>
              <a:chOff x="6386760" y="4539600"/>
              <a:chExt cx="1339200" cy="559800"/>
            </a:xfrm>
          </p:grpSpPr>
          <p:sp>
            <p:nvSpPr>
              <p:cNvPr id="371" name=""/>
              <p:cNvSpPr/>
              <p:nvPr/>
            </p:nvSpPr>
            <p:spPr>
              <a:xfrm>
                <a:off x="6469200" y="453960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86760" y="453960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26680" y="4539600"/>
              <a:ext cx="1339920" cy="559800"/>
              <a:chOff x="7726680" y="4539600"/>
              <a:chExt cx="1339920" cy="559800"/>
            </a:xfrm>
          </p:grpSpPr>
          <p:sp>
            <p:nvSpPr>
              <p:cNvPr id="374" name=""/>
              <p:cNvSpPr/>
              <p:nvPr/>
            </p:nvSpPr>
            <p:spPr>
              <a:xfrm>
                <a:off x="7809840" y="453960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726680" y="453960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85800" y="5100120"/>
              <a:ext cx="4360320" cy="559800"/>
              <a:chOff x="685800" y="5100120"/>
              <a:chExt cx="4360320" cy="559800"/>
            </a:xfrm>
          </p:grpSpPr>
          <p:sp>
            <p:nvSpPr>
              <p:cNvPr id="377" name=""/>
              <p:cNvSpPr/>
              <p:nvPr/>
            </p:nvSpPr>
            <p:spPr>
              <a:xfrm>
                <a:off x="768240" y="510012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Enterococcus s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5800" y="510012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046480" y="5100120"/>
              <a:ext cx="1339920" cy="559800"/>
              <a:chOff x="5046480" y="5100120"/>
              <a:chExt cx="1339920" cy="559800"/>
            </a:xfrm>
          </p:grpSpPr>
          <p:sp>
            <p:nvSpPr>
              <p:cNvPr id="380" name=""/>
              <p:cNvSpPr/>
              <p:nvPr/>
            </p:nvSpPr>
            <p:spPr>
              <a:xfrm>
                <a:off x="512892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464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386760" y="5100120"/>
              <a:ext cx="1339200" cy="559800"/>
              <a:chOff x="6386760" y="5100120"/>
              <a:chExt cx="1339200" cy="559800"/>
            </a:xfrm>
          </p:grpSpPr>
          <p:sp>
            <p:nvSpPr>
              <p:cNvPr id="383" name=""/>
              <p:cNvSpPr/>
              <p:nvPr/>
            </p:nvSpPr>
            <p:spPr>
              <a:xfrm>
                <a:off x="6469200" y="510012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4-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86760" y="510012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726680" y="5100120"/>
              <a:ext cx="1339920" cy="559800"/>
              <a:chOff x="7726680" y="5100120"/>
              <a:chExt cx="1339920" cy="559800"/>
            </a:xfrm>
          </p:grpSpPr>
          <p:sp>
            <p:nvSpPr>
              <p:cNvPr id="386" name=""/>
              <p:cNvSpPr/>
              <p:nvPr/>
            </p:nvSpPr>
            <p:spPr>
              <a:xfrm>
                <a:off x="7809840" y="510012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26680" y="510012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85800" y="5660640"/>
              <a:ext cx="4360320" cy="559800"/>
              <a:chOff x="685800" y="5660640"/>
              <a:chExt cx="4360320" cy="559800"/>
            </a:xfrm>
          </p:grpSpPr>
          <p:sp>
            <p:nvSpPr>
              <p:cNvPr id="389" name=""/>
              <p:cNvSpPr/>
              <p:nvPr/>
            </p:nvSpPr>
            <p:spPr>
              <a:xfrm>
                <a:off x="768240" y="566064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Autres BGN </a:t>
                </a:r>
                <a:r>
                  <a:rPr b="1" lang="fr-FR" sz="1600" spc="-1" strike="noStrike">
                    <a:solidFill>
                      <a:srgbClr val="ffff99"/>
                    </a:solidFill>
                    <a:latin typeface="Arial"/>
                  </a:rPr>
                  <a:t>(klebsiella, enterobacter, serrati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85800" y="566064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046480" y="5660640"/>
              <a:ext cx="1339920" cy="559800"/>
              <a:chOff x="5046480" y="5660640"/>
              <a:chExt cx="1339920" cy="5598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2892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-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0464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386760" y="5660640"/>
              <a:ext cx="1339200" cy="559800"/>
              <a:chOff x="6386760" y="5660640"/>
              <a:chExt cx="1339200" cy="559800"/>
            </a:xfrm>
          </p:grpSpPr>
          <p:sp>
            <p:nvSpPr>
              <p:cNvPr id="395" name=""/>
              <p:cNvSpPr/>
              <p:nvPr/>
            </p:nvSpPr>
            <p:spPr>
              <a:xfrm>
                <a:off x="6469200" y="566064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6760" y="566064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726680" y="5660640"/>
              <a:ext cx="1339920" cy="559800"/>
              <a:chOff x="7726680" y="5660640"/>
              <a:chExt cx="1339920" cy="559800"/>
            </a:xfrm>
          </p:grpSpPr>
          <p:sp>
            <p:nvSpPr>
              <p:cNvPr id="398" name=""/>
              <p:cNvSpPr/>
              <p:nvPr/>
            </p:nvSpPr>
            <p:spPr>
              <a:xfrm>
                <a:off x="7809840" y="566064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726680" y="566064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85800" y="6221160"/>
              <a:ext cx="4360320" cy="559800"/>
              <a:chOff x="685800" y="6221160"/>
              <a:chExt cx="4360320" cy="559800"/>
            </a:xfrm>
          </p:grpSpPr>
          <p:sp>
            <p:nvSpPr>
              <p:cNvPr id="401" name=""/>
              <p:cNvSpPr/>
              <p:nvPr/>
            </p:nvSpPr>
            <p:spPr>
              <a:xfrm>
                <a:off x="768240" y="6221160"/>
                <a:ext cx="41943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Levu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6221160"/>
                <a:ext cx="43603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046480" y="6221160"/>
              <a:ext cx="1339920" cy="559800"/>
              <a:chOff x="5046480" y="6221160"/>
              <a:chExt cx="1339920" cy="559800"/>
            </a:xfrm>
          </p:grpSpPr>
          <p:sp>
            <p:nvSpPr>
              <p:cNvPr id="404" name=""/>
              <p:cNvSpPr/>
              <p:nvPr/>
            </p:nvSpPr>
            <p:spPr>
              <a:xfrm>
                <a:off x="512892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0464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386760" y="6221160"/>
              <a:ext cx="1339200" cy="559800"/>
              <a:chOff x="6386760" y="6221160"/>
              <a:chExt cx="1339200" cy="559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469200" y="6221160"/>
                <a:ext cx="1173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386760" y="6221160"/>
                <a:ext cx="133920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7726680" y="6221160"/>
              <a:ext cx="1339920" cy="559800"/>
              <a:chOff x="7726680" y="6221160"/>
              <a:chExt cx="1339920" cy="559800"/>
            </a:xfrm>
          </p:grpSpPr>
          <p:sp>
            <p:nvSpPr>
              <p:cNvPr id="410" name=""/>
              <p:cNvSpPr/>
              <p:nvPr/>
            </p:nvSpPr>
            <p:spPr>
              <a:xfrm>
                <a:off x="7809840" y="6221160"/>
                <a:ext cx="11736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6680" y="6221160"/>
                <a:ext cx="1339920" cy="55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809640" y="2290320"/>
            <a:ext cx="810576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lang="fr-FR" sz="3600" spc="-1" strike="noStrike">
                <a:solidFill>
                  <a:srgbClr val="ffff99"/>
                </a:solidFill>
                <a:latin typeface="New York"/>
                <a:ea typeface="Times New Roman"/>
              </a:rPr>
              <a:t>Fréquences des résistances bactériennes en ville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s-à-vi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icilline : 40-5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 : 25-40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xicilline-acide clavulanique : 30-4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307880" y="609120"/>
            <a:ext cx="768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ogie microbienne des IU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ayant une élimination et une   concentration urinaire élevée (IU Bas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itrofu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ulf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inolones de 1ère géné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sfomycine-tromé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1760" y="2106720"/>
            <a:ext cx="83055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Molécules ayant une concentration parenchymateuse et une élimination urinaire élev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Amino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luoroquinol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trimoxazole-trimetop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Béta-lactamines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énicilline A et dérivés, carboxy-, uréïdo, amidinopénicil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éphalosporin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e 1ère, 2ème et 3ème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imy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ntibiotiques disponibl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colonisation urin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9280" y="1980720"/>
            <a:ext cx="8334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as de trait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 le pati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it sondé ou non, diabétique, âgé ou avec une vessie neur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AUF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mes enceintes (toujo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péniques, immunodéprim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 préopératoire (chir. ou explorations urologique, pose de prothè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avec prothèse articulaire, vasculaire ou cardiaque subissant des manœuvres invas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démie à BMR dans une unité hospitali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YSTITES AIGUE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nventionnel (7 à 10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court (3 jou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tement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urée de 7 à 10 j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ntibiotiques utilisé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quinolone de 1ère géné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itrofur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trimoxaz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éphalosporines 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moxicilline + acide clavula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985760"/>
            <a:ext cx="83818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1ère intention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ltern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® 200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amoxiclav, AUGMENTIN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n 2nde in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rofurantoïne, FURADANTINE® 50 MG PO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cp 3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1 cp 2x/j pdt 5 à 10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1066320" y="5950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conventionnel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e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és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Bactrim, quinolones urin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ère intention 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floxacine, NOROXIN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 2x/jour pdt 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oxacine, ENOXOR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 MG 2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mefloxacine, LOGIFLOX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0 mg 1 cp/j  pdt 3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nde inten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trimoxazole, BACTRIM FORTE</a:t>
            </a:r>
            <a:r>
              <a:rPr b="0" lang="fr-FR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/160 MG 3 cp en 1 prise u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Pour cotrimoxazole et quinolones le ttt court n’a pas d’avantage par rapport au t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court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8105760" cy="4496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Colonisation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bactériurie asymptomatique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ésence de germes dans l’arbre urinaire sans manifestations cli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sondé un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fc/ml (= 100% des cas après 3 semaines de sondag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z le patient non sondé présence de 2 ECB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fc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fection urinair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u moins 1 des signes 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ièvre, impériosité mictionnelle, pollakiurie, brûlures mictionnelles ou douleurs sus-pubien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New York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1" lang="fr-FR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</a:t>
            </a:r>
            <a:r>
              <a:rPr b="0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1 </a:t>
            </a:r>
            <a:r>
              <a:rPr b="0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CBU </a:t>
            </a:r>
            <a:r>
              <a:rPr b="1" lang="fr-F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+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ncentration bactérienn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fc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+ leucocyturie </a:t>
            </a:r>
            <a:r>
              <a:rPr b="0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</a:t>
            </a:r>
            <a:r>
              <a:rPr b="0" lang="fr-FR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/ml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 positive suffit pour cystite aigüe simple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1 seule 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efficacité immédiate et retardée iden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éflacine monodose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800m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iprofloxacine (Uniflox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5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floxacine (Monoflocet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400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osfomycine-trométamol (Monuril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Uridoz</a:t>
            </a:r>
            <a:r>
              <a:rPr b="0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 sachet de 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T minute des IU bass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09280" y="2133360"/>
            <a:ext cx="833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 à 65 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fièvre ou de douleurs lomb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ymptomatologie récente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’uropathie (</a:t>
            </a:r>
            <a:r>
              <a:rPr b="0" lang="fr-FR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reflux, méga-uretère, vessie neurologique, tumeur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grossesse en c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'intervention ou d'endoscopie urologique réc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sence de pathologie sous-jacente (Diabète, immunosuppression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Dans tous les autres cas ou si échec du TT minute </a:t>
            </a:r>
            <a:r>
              <a:rPr b="0" lang="fr-FR" sz="3200" spc="-1" strike="noStrike">
                <a:solidFill>
                  <a:srgbClr val="ff6600"/>
                </a:solidFill>
                <a:latin typeface="Symbol"/>
                <a:ea typeface="Symbol"/>
              </a:rPr>
              <a:t></a:t>
            </a:r>
            <a:r>
              <a:rPr b="0" lang="fr-FR" sz="3200" spc="-1" strike="noStrike">
                <a:solidFill>
                  <a:srgbClr val="ff6600"/>
                </a:solidFill>
                <a:latin typeface="Times New Roman"/>
              </a:rPr>
              <a:t> TT conventi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71600" y="60948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ditions d'utilisation du TT cour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t du TT min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Règles hygiéno-diétét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ujours associées au TT antibio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sson abondante et réguliè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tions réguliè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de sous-vêtements en c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ter les vêtements serr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T diarrhée et constip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ilet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érinéa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’avant en arriè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ystites aiguës récidivan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responsables en général plus résistants d'où nécessité d'un ECBU et d'un 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Traitement conventionnel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7-10 j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dapté à l’antibi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99"/>
                </a:solidFill>
                <a:uFillTx/>
                <a:latin typeface="Times New Roman"/>
              </a:rPr>
              <a:t>puis</a:t>
            </a: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mesures préventiv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indispensab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ègles hygiéno-diété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tibioprophyla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ibioprophylaxie des cystites récidi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en prise 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 le soir au cou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soit discontin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2 à 3 fois par sema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molécules utilisé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8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trofurantoïne 50 à 1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éfalexine 2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nalidixique 5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ide pipémidique 2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rfloxacine 200-40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YELONEPHRITES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TRAI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qué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056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luoroquinolo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-lactam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c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minosid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ssibles en début de traitement pdt 48 à 72 heures en 1 dose 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14-21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Réévaluation secondaire du traitement en fonction de l'antibiogramme + ECBU de contrô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809280" y="26715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fotaxime, CLAFORA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3x/j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triaxone, ROCEPHINE</a:t>
            </a:r>
            <a:r>
              <a:rPr b="0" lang="de-DE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gr 1x/j IV/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fixime, OROKEN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1 cp 2x/jour en relais des voies IV et I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loxacine, OFLOCET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 mg x 2/j PO ou IV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yélonéphrite aiguë non  compliquée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aiguës compliqué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280" y="213372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Uropathies malformatives, reflux vésico-urétéral, méga-uretère, obstacle sur les voies urinaire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bcès rénal ou pararé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Greffé, immunodéprimé, diabète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Antibiotiques utilis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iden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Duré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3 semaines minimum (3-6 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Bithérapie d'emblée comportant un amino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Traitement urologique associé si nécessaire 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drainage par néphrostomie ou abord chir. direct ; néphrectomie si pyonéphr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PROSTATIT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guë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Times New Roman"/>
              </a:rPr>
              <a:t>IU nosocomi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urvenue + de 48h après l’admission à l’Hô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son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vec sonde U (acquisition lors de la mise en place, par voie endoluminale ou extraluminale, hématogè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016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crobiologie des prostatit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22330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rimitiv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= rarement M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. coli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C. trachoma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téroco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- U. urealytic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roteus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M. homin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taphylococc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ureus 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Gonoco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tatites post-opératoir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lebsiella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Pseudom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nterobacter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- Acinetob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Serra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7432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262480"/>
            <a:ext cx="0" cy="10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raitement des prostatites (1)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964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Caractéristiques du traitem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posolubilité, pH basique et spectre d'activ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Durée du traitement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aiguë : 4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statite chronique: 1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chémas thérapeutiqu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09640" y="1905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aiguë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 C3G +/- aminos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 ou cyclines (si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 chroniqu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yclines (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Chlamydi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trimoxazole (Si germe sensi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S PARTICUL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me encei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ections sur so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mmes, enf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emme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ceint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221436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s de schéma dose u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tilisation des antibiotiques autorisé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péni, céphalosporines, nitrofuranes si 2ème trim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Bactériurie asymptomatiqu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TT systématique de 10 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ystit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1,5 à 3,5%) : TT convent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Pyélonéphrites (1 à 2%)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: privilégier les C3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rès 1</a:t>
            </a:r>
            <a:r>
              <a:rPr b="1" lang="fr-FR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ère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fection ou bactériurie asymptomatique, réaliser 1 ECBU/mois</a:t>
            </a:r>
            <a:r>
              <a:rPr b="0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ndant toute la grosse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ection urinaire sur sond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as de traitement en l’absence de symptô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signes d'infection déclaré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raitement en fonction de la sensibilité des ge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i possible, arrêter le sondage; en cas d’impossibilité, changement de sonde sous traitement à disc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rmes isolés :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E . coli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Entérocoque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P.aeruginosa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Klebsiella sp, Enterobacter sp, Serratia sp, Candida s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évention des infections sur son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640" y="29005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ion asept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inuer le nombre et la durée des sondages uri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ilisation de sachet anti-reflu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ection urinaire chez l’hom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Vérifier si atteinte primitive ou secondaire de la prostate (toucher rectal, écho. prostat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Si prostatite associée, durée du traitement adapté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buter un bilan urologique dès le premier épisode d’infection urinaire sans prostatite primi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IV, scanner rénal, épreuves uro-dynamiques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2876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3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 aiguë simple</a:t>
            </a: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(non compliqué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emme de 15-65 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Hors grossesse, IU récidivante, uropathie, diabète, immunodépression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iniqu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dysurie, pesanteur pelvienne, pollakiurie, pyurie, 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ignes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fièvre, douleurs lomb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Biologi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U + (Nitrites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t/o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eucocy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CBU non indispens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tteinte du haut appareil possible dans 10 à 35% des cas surtout si évolution de la symptomatologie de plus de 7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Cystites aiguës récidiv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us de 4 cystites par 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épisodes rapprochés de – de 3 m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plique : - ECBU systématique (avant et après T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contre-indication TT min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bilan urologique (à distance de l’I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- TT préventif des récid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66"/>
                </a:solidFill>
                <a:uFillTx/>
                <a:latin typeface="Times New Roman"/>
              </a:rPr>
              <a:t>Autres cystites compliqu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omme, enfant, grossesse, uropathie, immunodé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BU systématique, TT conventionnel, +/- bilan urologiq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28760" y="91440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4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basses</a:t>
            </a:r>
            <a:br>
              <a:rPr sz="4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"simples" ou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 : SFU + douleurs des fosses lomb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+ signes généraux (fièvre, friss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CBU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yélonéphrites aiguës compliqu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tacle sur les voies urinaires, uropath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bcès parenchymateux ou pararé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stat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statite aiguë ou chron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imitive ou post-opérato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08240" y="9140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éfinitions (5) :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Infections urinaires haut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6600"/>
                </a:solidFill>
                <a:latin typeface="Times New Roman"/>
              </a:rPr>
              <a:t>CLINIQUE  !!!!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Biolog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andelette 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valeur prédictive négative de 98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itrites reflets de la présence de bactéries productrices de nitrate réduc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NB: Pas de nitrate réductase chez les cocci Gram + (Entérocoque, Staphylocoque), BGN aérobies (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Pseudomonas sp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Nitrites négatifs à la B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ECBU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coliformes) ou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ufc/ml (autres bacté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+ leucocyturie </a:t>
            </a:r>
            <a:r>
              <a:rPr b="0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/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yndrome inflammatoire biologiqu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: CRP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, VS </a:t>
            </a:r>
            <a:r>
              <a:rPr b="0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Hyperleucocytose à P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Times New Roman"/>
              </a:rPr>
              <a:t>Imageri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Echo +++, +/- doppler, scann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51055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2419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 IU hau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yélonéphrites et iconographi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68360" y="2362320"/>
            <a:ext cx="3816360" cy="3352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42560" y="585612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anner ré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800600" y="2341440"/>
            <a:ext cx="38862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ritères de choix de l’antibiotiqu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iveau d'infection bas ou ha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communautaire ou nosocomial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de germe en 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ractère isolé ou récidivant de l'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errain sous-ja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thologique : uropathie, sonde à dem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ysiologique : grossesse, homme, enf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20:55:34Z</dcterms:created>
  <dc:creator>remy</dc:creator>
  <dc:description/>
  <dc:language>en-US</dc:language>
  <cp:lastModifiedBy>NONNENMM</cp:lastModifiedBy>
  <dcterms:modified xsi:type="dcterms:W3CDTF">2009-03-23T07:58:26Z</dcterms:modified>
  <cp:revision>108</cp:revision>
  <dc:subject/>
  <dc:title>TRAITEMENT ANTIBIOTIQUE DES INFECTIONS URINAIRES </dc:title>
</cp:coreProperties>
</file>